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9A9-B7B4-480E-9B7A-2B519F8C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53F-9FBD-4E3E-9760-217C1E14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12C7-0249-4676-9833-ED5A326C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7BF-04B4-4DDC-92FF-173D5F17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51A-EB9D-4F2E-975E-F04994B2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B93-E808-4269-ADC5-C951A839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437-26FC-489E-B951-7673513D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775-1774-4413-A70E-76E088B7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D8D-E1EB-4625-A8E2-E6FD56D6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137-9513-4202-9FDC-74A44F2D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3CC-5D9A-4C67-8751-7E6286B7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7E31-3E14-4E5D-8A22-978DB89C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6BE8-333E-4A84-A3F2-CF773D9A16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Arkusz Styli – ćwiczenia część 3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racował Arkadiusz Walicz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4197" r="42118" b="34213"/>
          <a:stretch/>
        </p:blipFill>
        <p:spPr>
          <a:xfrm>
            <a:off x="0" y="692280"/>
            <a:ext cx="91440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3490" r="30705" b="34213"/>
          <a:stretch/>
        </p:blipFill>
        <p:spPr>
          <a:xfrm>
            <a:off x="0" y="1130400"/>
            <a:ext cx="914400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3490" r="42909" b="30016"/>
          <a:stretch/>
        </p:blipFill>
        <p:spPr>
          <a:xfrm>
            <a:off x="0" y="404640"/>
            <a:ext cx="914400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4197" r="38968" b="16713"/>
          <a:stretch/>
        </p:blipFill>
        <p:spPr>
          <a:xfrm>
            <a:off x="0" y="139680"/>
            <a:ext cx="921708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3504" r="46052" b="31406"/>
          <a:stretch/>
        </p:blipFill>
        <p:spPr>
          <a:xfrm>
            <a:off x="0" y="333360"/>
            <a:ext cx="882000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ff"/>
                </a:solidFill>
                <a:latin typeface="Arial"/>
              </a:rPr>
              <a:t>CSS3 - @media quer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38194" t="13997" r="21060" b="6206"/>
          <a:stretch/>
        </p:blipFill>
        <p:spPr>
          <a:xfrm>
            <a:off x="1403280" y="0"/>
            <a:ext cx="622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4197" r="55114" b="29306"/>
          <a:stretch/>
        </p:blipFill>
        <p:spPr>
          <a:xfrm>
            <a:off x="468360" y="17640"/>
            <a:ext cx="8209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4197" r="56293" b="39803"/>
          <a:stretch/>
        </p:blipFill>
        <p:spPr>
          <a:xfrm>
            <a:off x="684360" y="476280"/>
            <a:ext cx="7993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42128" t="12593" r="31095" b="13209"/>
          <a:stretch/>
        </p:blipFill>
        <p:spPr>
          <a:xfrm>
            <a:off x="2340000" y="0"/>
            <a:ext cx="440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42136" t="18473" r="31095" b="49599"/>
          <a:stretch/>
        </p:blipFill>
        <p:spPr>
          <a:xfrm>
            <a:off x="2340000" y="1484280"/>
            <a:ext cx="4896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490" r="52354" b="39106"/>
          <a:stretch/>
        </p:blipFill>
        <p:spPr>
          <a:xfrm>
            <a:off x="179280" y="476280"/>
            <a:ext cx="87138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3504" r="44870" b="34199"/>
          <a:stretch/>
        </p:blipFill>
        <p:spPr>
          <a:xfrm>
            <a:off x="0" y="620640"/>
            <a:ext cx="89298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9T12:12:53Z</dcterms:created>
  <dc:creator>Uczen</dc:creator>
  <dc:description/>
  <dc:language>en-US</dc:language>
  <cp:lastModifiedBy>walerasan</cp:lastModifiedBy>
  <dcterms:modified xsi:type="dcterms:W3CDTF">2019-11-17T18:25:28Z</dcterms:modified>
  <cp:revision>84</cp:revision>
  <dc:subject/>
  <dc:title>Arkusz Styli - ćwiczenia</dc:title>
</cp:coreProperties>
</file>