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FC5-064D-4BB2-B224-8B7584FA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10D-D88D-47BF-821F-E2D619B5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341-508A-472B-A8C2-7C858758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748-9E0C-4303-B8E8-3EAB5170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4C3-2FD4-47D2-852A-611DCEF9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272-E222-4141-A415-6562990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161-26B8-4E9F-B605-3236F843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222-4F0D-434C-9C32-44638C85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419-B98E-44BA-974E-E7FC1E5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BA8-162A-4452-832B-7B11951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BC9-D4D0-4FDC-80FC-AD7B02B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FD3-5B8E-441F-95BE-EFAFF3A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1A23-F935-43D3-B39D-F79EA84300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rkusz Styli - ćwiczeni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racował Arkadiusz Walicz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c08d"/>
                </a:solidFill>
                <a:latin typeface="Arial"/>
              </a:rPr>
              <a:t>Stopień ważności selektorów CSS</a:t>
            </a: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by zrozumieć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stopień ważnośc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selektorów CSS musimy znać grupy ważności na jakie dzielą się selektory CSS, ponieważ każda taka grupa posiada swój własny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stopień ważnośc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pomniane grupy ważności możemy określić za pomocą pomocniczych oznaczeń, np.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G1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G2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G3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1 - najwyższy stopień ważnośc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p. #sel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iv id=selector&gt;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bbae03"/>
                </a:solidFill>
                <a:latin typeface="Arial"/>
              </a:rPr>
              <a:t>G2 - średni stopień waż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 tej grupy należ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[atrybuty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:link { ... } (selector pseudoklas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.klasa { ... } (selector klas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&lt;div class=klasa&gt;&lt;/div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G3 - najniższy stopień ważności</a:t>
            </a:r>
            <a:r>
              <a:rPr b="0" lang="pl-P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element { ... }  np.. p{color:red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::first-line { ... } (selector pseudoelemen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p::first-l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reść znajdująca się w pierwszym wierszu każdego elementu p została umieszczona w dodatkowym pseudoelemenc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99ff"/>
                </a:solidFill>
                <a:latin typeface="Arial"/>
              </a:rPr>
              <a:t>Znaki niewpływające na stopień ważnośc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astępujące znaki, nie wpływają na stopień ważności selektorów CSS: *, ,, &gt;, +, ~ oraz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pacja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, która określa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elektor potom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Np.. div p { color:red;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dfc08d"/>
                </a:solidFill>
                <a:latin typeface="Arial"/>
              </a:rPr>
              <a:t>p::first-line</a:t>
            </a: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4197" r="76772" b="34199"/>
          <a:stretch/>
        </p:blipFill>
        <p:spPr>
          <a:xfrm>
            <a:off x="2484360" y="836640"/>
            <a:ext cx="42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Grupy ważnośc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4197" r="68509" b="24416"/>
          <a:stretch/>
        </p:blipFill>
        <p:spPr>
          <a:xfrm>
            <a:off x="2484360" y="1341360"/>
            <a:ext cx="40658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fc08d"/>
                </a:solidFill>
                <a:latin typeface="Arial"/>
              </a:rPr>
              <a:t>deklaracja "!important„</a:t>
            </a:r>
            <a:br>
              <a:rPr sz="2000"/>
            </a:br>
            <a:r>
              <a:rPr b="1" lang="pl-PL" sz="2000" spc="-1" strike="noStrike">
                <a:solidFill>
                  <a:srgbClr val="dfc08d"/>
                </a:solidFill>
                <a:latin typeface="Arial"/>
              </a:rPr>
              <a:t>służy do "łamania" niektórych, dotychczasowo poznanych zasad ;)</a:t>
            </a:r>
            <a:r>
              <a:rPr b="0" lang="pl-PL" sz="20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4074" r="62198" b="11928"/>
          <a:stretch/>
        </p:blipFill>
        <p:spPr>
          <a:xfrm>
            <a:off x="2484360" y="1557360"/>
            <a:ext cx="3629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c08d"/>
                </a:solidFill>
                <a:latin typeface="Arial"/>
              </a:rPr>
              <a:t>CSS3 - Gradienty liniowe oraz promieniste</a:t>
            </a:r>
            <a:br>
              <a:rPr sz="2000"/>
            </a:b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4197" r="57085" b="17392"/>
          <a:stretch/>
        </p:blipFill>
        <p:spPr>
          <a:xfrm>
            <a:off x="2268360" y="1052640"/>
            <a:ext cx="4905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c08d"/>
                </a:solidFill>
                <a:latin typeface="Arial"/>
              </a:rPr>
              <a:t>Wartości i jednostki CSS</a:t>
            </a: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4214" r="31095" b="6885"/>
          <a:stretch/>
        </p:blipFill>
        <p:spPr>
          <a:xfrm>
            <a:off x="755640" y="907920"/>
            <a:ext cx="7921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fc08d"/>
                </a:solidFill>
                <a:latin typeface="Arial"/>
              </a:rPr>
              <a:t>KOLORY – proponowany program: </a:t>
            </a:r>
            <a:br>
              <a:rPr sz="1800"/>
            </a:br>
            <a:r>
              <a:rPr b="1" lang="pl-PL" sz="1800" spc="-1" strike="noStrike">
                <a:solidFill>
                  <a:srgbClr val="dfc08d"/>
                </a:solidFill>
                <a:latin typeface="Arial"/>
              </a:rPr>
              <a:t>Just Color Picker</a:t>
            </a:r>
            <a:r>
              <a:rPr b="0" lang="pl-PL" sz="1800" spc="-1" strike="noStrike">
                <a:solidFill>
                  <a:srgbClr val="dfc08d"/>
                </a:solidFill>
                <a:latin typeface="Arial"/>
              </a:rPr>
              <a:t> - prosty program w obsłudze </a:t>
            </a: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4197" r="31485" b="11113"/>
          <a:stretch/>
        </p:blipFill>
        <p:spPr>
          <a:xfrm>
            <a:off x="611280" y="907920"/>
            <a:ext cx="7921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dfc08d"/>
                </a:solidFill>
                <a:latin typeface="Arial"/>
              </a:rPr>
              <a:t>Jednostki relatywne</a:t>
            </a:r>
            <a:br>
              <a:rPr sz="1800"/>
            </a:br>
            <a:r>
              <a:rPr b="1" lang="pl-PL" sz="1800" spc="-1" strike="noStrike">
                <a:solidFill>
                  <a:srgbClr val="dfc08d"/>
                </a:solidFill>
                <a:latin typeface="Arial"/>
              </a:rPr>
              <a:t>em, rem</a:t>
            </a: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4197" r="10625" b="31406"/>
          <a:stretch/>
        </p:blipFill>
        <p:spPr>
          <a:xfrm>
            <a:off x="250920" y="1268280"/>
            <a:ext cx="856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c08d"/>
                </a:solidFill>
                <a:latin typeface="Arial"/>
              </a:rPr>
              <a:t>Elementy wyświetlane w linii lub w bloku</a:t>
            </a:r>
            <a:br>
              <a:rPr sz="1800"/>
            </a:b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4214" r="60626" b="9692"/>
          <a:stretch/>
        </p:blipFill>
        <p:spPr>
          <a:xfrm>
            <a:off x="1979640" y="692280"/>
            <a:ext cx="483876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Łączenie się ze sobą reguł CS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[title]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background-color:blue; border:1px solid black; color:#000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.twoja_nazwa {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background-color:green; border:none; text-decoration:underlin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c08d"/>
                </a:solidFill>
                <a:latin typeface="Arial"/>
              </a:rPr>
              <a:t>Manipulacja właściwością "display"</a:t>
            </a:r>
            <a:br>
              <a:rPr sz="4000"/>
            </a:b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4214" r="66139" b="8999"/>
          <a:stretch/>
        </p:blipFill>
        <p:spPr>
          <a:xfrm>
            <a:off x="1835280" y="333360"/>
            <a:ext cx="58356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c08d"/>
                </a:solidFill>
                <a:latin typeface="Arial"/>
              </a:rPr>
              <a:t>Unoszący się element HTML</a:t>
            </a:r>
            <a:br>
              <a:rPr sz="4000"/>
            </a:b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4197" r="46059" b="23702"/>
          <a:stretch/>
        </p:blipFill>
        <p:spPr>
          <a:xfrm>
            <a:off x="395280" y="579600"/>
            <a:ext cx="835200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Display: flex</a:t>
            </a:r>
            <a:br>
              <a:rPr sz="1800"/>
            </a:br>
            <a:r>
              <a:rPr b="1" lang="en-US" sz="1800" spc="-1" strike="noStrike">
                <a:solidFill>
                  <a:srgbClr val="dfc08d"/>
                </a:solidFill>
                <a:latin typeface="Arial"/>
              </a:rPr>
              <a:t>CSS3 - Elastyczny układ elementów HTML</a:t>
            </a:r>
            <a:br>
              <a:rPr sz="4000"/>
            </a:b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4197" r="62198" b="44692"/>
          <a:stretch/>
        </p:blipFill>
        <p:spPr>
          <a:xfrm>
            <a:off x="1187280" y="1197000"/>
            <a:ext cx="691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c08d"/>
                </a:solidFill>
                <a:latin typeface="Arial"/>
              </a:rPr>
              <a:t>Przeznaczenie danej właściwości CSS</a:t>
            </a:r>
            <a:br>
              <a:rPr sz="1800"/>
            </a:b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4197" r="60235" b="51699"/>
          <a:stretch/>
        </p:blipFill>
        <p:spPr>
          <a:xfrm>
            <a:off x="900000" y="1197000"/>
            <a:ext cx="727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dfc08d"/>
                </a:solidFill>
                <a:latin typeface="Arial"/>
              </a:rPr>
              <a:t>właściwości efektu przejścia - transition CSS3</a:t>
            </a:r>
            <a:br>
              <a:rPr sz="1800"/>
            </a:br>
            <a:endParaRPr b="0" lang="en-US" sz="1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4197" r="64568" b="38413"/>
          <a:stretch/>
        </p:blipFill>
        <p:spPr>
          <a:xfrm>
            <a:off x="1403280" y="692280"/>
            <a:ext cx="648036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ZADANIE DOMOW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AJ PRZYKŁ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obnej reguły CSS dla przeglądarki Internet Explorer w formie strony Internet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4197" r="48422" b="23702"/>
          <a:stretch/>
        </p:blipFill>
        <p:spPr>
          <a:xfrm>
            <a:off x="1042920" y="765000"/>
            <a:ext cx="734400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Właściwości CSS z przedrostkami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ęzyk CSS jest językiem, który cały czas się rozwija, są do niego dodawane nowe właściwości, lecz czasami zdarza się, że dana nowa właściwość, musi być w nieco inny sposób "obsłużona" przez poszczególną przeglądarkę internetową i właśnie dlatego powstały przedrostki, które ułatwiają pracę osobom odpowiedzialnym za tworzenie kolejnych wersji danych przeglądarek internetowych i osobom, które pracują nad rozwojem języka CS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drostki są przeznaczone dla konkretnej przeglądarki internetowej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drostek -moz- przeznaczony jest dla przeglądarki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ozilla Firefox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drostek -webkit- przeznaczony jest dla przeglądarki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oogle Chrom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afar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per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drostek -ms- przeznaczony jest dla przeglądarki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icrosoft Internet Explor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4214" r="44089" b="17392"/>
          <a:stretch/>
        </p:blipFill>
        <p:spPr>
          <a:xfrm>
            <a:off x="755640" y="333360"/>
            <a:ext cx="770724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Właściwości CSS zmieniające rozmiar elementu HTML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Ćwiczen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twórz div który ma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sokość: 100px oraz szerokość:100px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iv posiada sty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order 10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rgines wewnętrzny(lewy,prawy,góra,dół) 20px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dfc08d"/>
                </a:solidFill>
                <a:latin typeface="Arial"/>
              </a:rPr>
              <a:t>Wartość "inherit"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4197" r="44880" b="29971"/>
          <a:stretch/>
        </p:blipFill>
        <p:spPr>
          <a:xfrm>
            <a:off x="971640" y="1413000"/>
            <a:ext cx="748980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Typy selektorów CS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4197" r="57874" b="15295"/>
          <a:stretch/>
        </p:blipFill>
        <p:spPr>
          <a:xfrm>
            <a:off x="1403280" y="907920"/>
            <a:ext cx="63374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c08d"/>
                </a:solidFill>
                <a:latin typeface="Arial"/>
              </a:rPr>
              <a:t>Łączenie selektorów CS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4197" r="37397" b="39803"/>
          <a:stretch/>
        </p:blipFill>
        <p:spPr>
          <a:xfrm>
            <a:off x="468360" y="836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9T12:12:53Z</dcterms:created>
  <dc:creator>Uczen</dc:creator>
  <dc:description/>
  <dc:language>en-US</dc:language>
  <cp:lastModifiedBy>walerasan</cp:lastModifiedBy>
  <dcterms:modified xsi:type="dcterms:W3CDTF">2019-11-05T19:41:26Z</dcterms:modified>
  <cp:revision>49</cp:revision>
  <dc:subject/>
  <dc:title>Arkusz Styli - ćwiczenia</dc:title>
</cp:coreProperties>
</file>