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7055-7E66-4E79-ADAD-20F2DDFE6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4DF5-808E-43BE-B634-58DDBD6D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AE31-E4A0-41F8-A1E2-745C197E4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CFFE-EBFB-45E1-BFB7-8786D81B6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10E9-A2A8-444B-B69E-2EDD95AE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6E0F-63D3-4698-ADAB-0DD2AA7E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AA71-FBBC-4085-8848-F7583DA8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DB11-7DD7-4FD6-809F-B4CA794B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4AD0-ECB7-46D3-9925-90FC2326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CAD9-02D8-4E96-87E7-DABAF343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47CC-ADE5-410B-AE95-0E1E3A3A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BE44-4E8C-46D9-A006-6D7E82A0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90DB-B2D8-49C7-8DB4-366DB5D2B0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webkod.pl/kurs-css/wlasciwosci/animacja/animation-duration" TargetMode="External"/><Relationship Id="rId2" Type="http://schemas.openxmlformats.org/officeDocument/2006/relationships/hyperlink" Target="https://webkod.pl/kurs-css/wlasciwosci/animacja/animation-timing-function" TargetMode="External"/><Relationship Id="rId3" Type="http://schemas.openxmlformats.org/officeDocument/2006/relationships/hyperlink" Target="https://webkod.pl/kurs-css/wlasciwosci/animacja/animation-delay" TargetMode="External"/><Relationship Id="rId4" Type="http://schemas.openxmlformats.org/officeDocument/2006/relationships/hyperlink" Target="https://webkod.pl/kurs-css/wlasciwosci/animacja/animation-iteration-count" TargetMode="External"/><Relationship Id="rId5" Type="http://schemas.openxmlformats.org/officeDocument/2006/relationships/hyperlink" Target="https://webkod.pl/kurs-css/wlasciwosci/animacja/animation-direction" TargetMode="External"/><Relationship Id="rId6" Type="http://schemas.openxmlformats.org/officeDocument/2006/relationships/hyperlink" Target="https://webkod.pl/kurs-css/wlasciwosci/animacja/animation-fill-mode" TargetMode="External"/><Relationship Id="rId7" Type="http://schemas.openxmlformats.org/officeDocument/2006/relationships/hyperlink" Target="https://webkod.pl/kurs-css/wlasciwosci/animacja/animation-play-state" TargetMode="External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ebkod.pl/kurs-css/wlasciwosci/animacja/animation-name" TargetMode="External"/><Relationship Id="rId2" Type="http://schemas.openxmlformats.org/officeDocument/2006/relationships/hyperlink" Target="https://webkod.pl/kurs-css/wlasciwosci/animacja/animation-duration" TargetMode="External"/><Relationship Id="rId3" Type="http://schemas.openxmlformats.org/officeDocument/2006/relationships/hyperlink" Target="https://webkod.pl/kurs-css/wlasciwosci/animacja/animation-timing-function" TargetMode="External"/><Relationship Id="rId4" Type="http://schemas.openxmlformats.org/officeDocument/2006/relationships/hyperlink" Target="https://webkod.pl/kurs-css/wlasciwosci/animacja/animation-delay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Arkusz Styli – ćwiczenia część 2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pracował Arkadiusz Walicze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16935" t="8411" r="16920" b="41189"/>
          <a:stretch/>
        </p:blipFill>
        <p:spPr>
          <a:xfrm>
            <a:off x="826920" y="1773360"/>
            <a:ext cx="756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4197" r="48812" b="25802"/>
          <a:stretch/>
        </p:blipFill>
        <p:spPr>
          <a:xfrm>
            <a:off x="539640" y="476280"/>
            <a:ext cx="7993080" cy="61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dfc08d"/>
                </a:solidFill>
                <a:latin typeface="Arial"/>
              </a:rPr>
              <a:t>@keyframes oraz selektory czasu animacji</a:t>
            </a:r>
            <a:br>
              <a:rPr sz="1800"/>
            </a:br>
            <a:endParaRPr b="0" lang="en-US" sz="18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Do języka CSS są dodawane różne nowości. Jedną z tych nowości jest animacja. Dodanie animacji do elementu HTML jest bardzo proste. Możemy wykorzystać do tego celu właściwoś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ani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Za pomocą wspomnianej właściwości animation możemy określić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zas trwania animacji, czyli właściwość </a:t>
            </a:r>
            <a:br>
              <a:rPr sz="2400"/>
            </a:br>
            <a:r>
              <a:rPr b="0" lang="pl-PL" sz="2400" spc="-1" strike="noStrike" u="sng">
                <a:solidFill>
                  <a:srgbClr val="ccb400"/>
                </a:solidFill>
                <a:uFillTx/>
                <a:latin typeface="Arial"/>
                <a:hlinkClick r:id="rId1"/>
              </a:rPr>
              <a:t>animation-duration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tempo animacji, czyli właściwość </a:t>
            </a:r>
            <a:br>
              <a:rPr sz="2400"/>
            </a:br>
            <a:r>
              <a:rPr b="0" lang="pl-PL" sz="2400" spc="-1" strike="noStrike" u="sng">
                <a:solidFill>
                  <a:srgbClr val="ccb400"/>
                </a:solidFill>
                <a:uFillTx/>
                <a:latin typeface="Arial"/>
                <a:hlinkClick r:id="rId2"/>
              </a:rPr>
              <a:t>animation-timing-function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późnienie lub przyspieszenie animacji, czyli właściwość </a:t>
            </a:r>
            <a:r>
              <a:rPr b="0" lang="pl-PL" sz="2400" spc="-1" strike="noStrike" u="sng">
                <a:solidFill>
                  <a:srgbClr val="ccb400"/>
                </a:solidFill>
                <a:uFillTx/>
                <a:latin typeface="Arial"/>
                <a:hlinkClick r:id="rId3"/>
              </a:rPr>
              <a:t>animation-delay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ilość powtórzeń animacji, czyli właściwość </a:t>
            </a:r>
            <a:br>
              <a:rPr sz="2400"/>
            </a:br>
            <a:r>
              <a:rPr b="0" lang="pl-PL" sz="2400" spc="-1" strike="noStrike" u="sng">
                <a:solidFill>
                  <a:srgbClr val="ccb400"/>
                </a:solidFill>
                <a:uFillTx/>
                <a:latin typeface="Arial"/>
                <a:hlinkClick r:id="rId4"/>
              </a:rPr>
              <a:t>animation-iteration-count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kierunek powtarzania się oraz rozpoczęcia animacji, czyli właściwość </a:t>
            </a:r>
            <a:r>
              <a:rPr b="0" lang="pl-PL" sz="2400" spc="-1" strike="noStrike" u="sng">
                <a:solidFill>
                  <a:srgbClr val="ccb400"/>
                </a:solidFill>
                <a:uFillTx/>
                <a:latin typeface="Arial"/>
                <a:hlinkClick r:id="rId5"/>
              </a:rPr>
              <a:t>animation-direction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dodatkowy wygląd elementu HTML przed lub po wykonaniu się animacji, czyli właściwość </a:t>
            </a:r>
            <a:br>
              <a:rPr sz="2400"/>
            </a:br>
            <a:r>
              <a:rPr b="0" lang="pl-PL" sz="2400" spc="-1" strike="noStrike" u="sng">
                <a:solidFill>
                  <a:srgbClr val="ccb400"/>
                </a:solidFill>
                <a:uFillTx/>
                <a:latin typeface="Arial"/>
                <a:hlinkClick r:id="rId6"/>
              </a:rPr>
              <a:t>animation-fill-mode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zatrzymanie lub wznowienie aktualnej animacji, czyli właściwość </a:t>
            </a:r>
            <a:r>
              <a:rPr b="0" lang="pl-PL" sz="2400" spc="-1" strike="noStrike" u="sng">
                <a:solidFill>
                  <a:srgbClr val="ccb400"/>
                </a:solidFill>
                <a:uFillTx/>
                <a:latin typeface="Arial"/>
                <a:hlinkClick r:id="rId7"/>
              </a:rPr>
              <a:t>animation-play-state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4197" r="23222" b="8316"/>
          <a:stretch/>
        </p:blipFill>
        <p:spPr>
          <a:xfrm>
            <a:off x="179280" y="860400"/>
            <a:ext cx="87138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fc08d"/>
                </a:solidFill>
                <a:latin typeface="Arial"/>
              </a:rPr>
              <a:t>Poznajemy właściwości animacji - animation CSS3</a:t>
            </a:r>
            <a:br>
              <a:rPr sz="2000"/>
            </a:br>
            <a:endParaRPr b="0" lang="en-US" sz="2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ccb400"/>
                </a:solidFill>
                <a:uFillTx/>
                <a:latin typeface="Arial"/>
                <a:hlinkClick r:id="rId1"/>
              </a:rPr>
              <a:t>animation-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Właściwość ta określa nazwę animacji, którą chcemy dodać do elementu HTM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ccb400"/>
                </a:solidFill>
                <a:uFillTx/>
                <a:latin typeface="Arial"/>
                <a:hlinkClick r:id="rId2"/>
              </a:rPr>
              <a:t>animation-du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Właściwość ta określa długość trwania animacji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ccb400"/>
                </a:solidFill>
                <a:uFillTx/>
                <a:latin typeface="Arial"/>
                <a:hlinkClick r:id="rId3"/>
              </a:rPr>
              <a:t>animation-timing-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Właściwość ta określa tempo animacj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ccb400"/>
                </a:solidFill>
                <a:uFillTx/>
                <a:latin typeface="Arial"/>
                <a:hlinkClick r:id="rId4"/>
              </a:rPr>
              <a:t>animation-de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Właściwość ta określa opóźnienie lub przyspieszenie 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ierwszego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 startu animacji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animation-iteration-c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Właściwość ta określa ilość powtórzeń animacji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animation-dir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Właściwość ta określa kierunek powtarzania się oraz rozpoczęcia animacji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animation-fill-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Właściwość ta określa dodatkowy wygląd elementu HTML przed lub po wykonaniu się animacji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animation-play-st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Właściwość ta wstrzymuje bądź wznawia wykonywanie się animacji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ani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Właściwość ta określa wszystkie wyżej wymienione właściwości CS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4197" r="59048" b="29306"/>
          <a:stretch/>
        </p:blipFill>
        <p:spPr>
          <a:xfrm>
            <a:off x="1332000" y="476280"/>
            <a:ext cx="662472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52362" b="2929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ZADANIE DOMOW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AJ PRZYKŁ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sobnej reguły CSS dla przeglądarki Internet Explorer w formie strony Internetowe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fc08d"/>
                </a:solidFill>
                <a:latin typeface="Arial"/>
              </a:rPr>
              <a:t>Pozycja statyczna, relatywna, absolutna oraz ustalona</a:t>
            </a:r>
            <a:endParaRPr b="0" lang="en-US" sz="18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Na tej lekcji CSS poznamy w jaki sposób sprawić, aby element HTML przestał być elementem statycznym, a stał się elementem wyświetlonym w pozycji relatywnej, absolutnej lub ustalonej. Dlatego poznamy do czego służy właściwość selektora „position”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 realnym świecie, gdy układamy jedną kartkę papieru na drugiej kartce papieru, gdy powtarzamy tą czynność z kilkoma kartkami papieru, to tworzymy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stos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z kartek papieru ułożonych na sobie nawzajem.</a:t>
            </a:r>
            <a:br>
              <a:rPr sz="1800"/>
            </a:b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 świecie wirtualnym, gdy umieszczamy jeden element HTML w drugim, gdy powtarzamy tą czynność z kilkoma elementami HTML, to tworzy się coś, co moglibyśmy nazwać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"stosem elementów HTML"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Gdy element HTML będzie wyświetlony w pozycji innej niż statyczna, czyli w pozycji relative, absolute lub fixed, to nie będzie on wpływał, po przesunięciu go, na położenie sąsiednich elementów HTML, tzn. nie będzie on odsuwał ich od siebie. Dlatego będziemy mogli skorzystać z właściwośc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:top - odsunięcie od gó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right - odsunięcie od prawej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bottom - odsunięcie od dołu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left - odsunięcie od lewej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o zmiany pozycji, w jakiej ma być wyświetlony element HTML, wykorzystuje się właściwość position oraz jedną z następujących wartości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relative - pozycja relatywn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absolute - pozycja absolutn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xed - pozycja ustalon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26771" t="8411" r="27163" b="51003"/>
          <a:stretch/>
        </p:blipFill>
        <p:spPr>
          <a:xfrm>
            <a:off x="324000" y="1268280"/>
            <a:ext cx="842472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4197" r="5895" b="11095"/>
          <a:stretch/>
        </p:blipFill>
        <p:spPr>
          <a:xfrm>
            <a:off x="0" y="981000"/>
            <a:ext cx="91440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4197" r="5113" b="11064"/>
          <a:stretch/>
        </p:blipFill>
        <p:spPr>
          <a:xfrm>
            <a:off x="179280" y="1125360"/>
            <a:ext cx="8964720" cy="45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4197" r="4713" b="11806"/>
          <a:stretch/>
        </p:blipFill>
        <p:spPr>
          <a:xfrm>
            <a:off x="0" y="1125360"/>
            <a:ext cx="90360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4074" r="4323" b="14721"/>
          <a:stretch/>
        </p:blipFill>
        <p:spPr>
          <a:xfrm>
            <a:off x="108000" y="1700280"/>
            <a:ext cx="8893080" cy="42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29T12:12:53Z</dcterms:created>
  <dc:creator>Uczen</dc:creator>
  <dc:description/>
  <dc:language>en-US</dc:language>
  <cp:lastModifiedBy>ArkadiuszWaliczek</cp:lastModifiedBy>
  <dcterms:modified xsi:type="dcterms:W3CDTF">2019-11-29T09:48:58Z</dcterms:modified>
  <cp:revision>72</cp:revision>
  <dc:subject/>
  <dc:title>Arkusz Styli - ćwiczenia</dc:title>
</cp:coreProperties>
</file>